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dailydoub.wav" ContentType="audio/x-wav"/>
  <Override PartName="/ppt/media/image9.wmf" ContentType="image/x-wmf"/>
  <Override PartName="/ppt/media/image1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69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© Mark E. Damon -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dailydoub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" Target=""/><Relationship Id="rId21" Type="http://schemas.openxmlformats.org/officeDocument/2006/relationships/slide" Target=""/><Relationship Id="rId22" Type="http://schemas.openxmlformats.org/officeDocument/2006/relationships/slide" Target=""/><Relationship Id="rId23" Type="http://schemas.openxmlformats.org/officeDocument/2006/relationships/slide" Target=""/><Relationship Id="rId24" Type="http://schemas.openxmlformats.org/officeDocument/2006/relationships/slide" Target=""/><Relationship Id="rId25" Type="http://schemas.openxmlformats.org/officeDocument/2006/relationships/slide" Target=""/><Relationship Id="rId26" Type="http://schemas.openxmlformats.org/officeDocument/2006/relationships/slide" Target=""/><Relationship Id="rId27" Type="http://schemas.openxmlformats.org/officeDocument/2006/relationships/slide" Target=""/><Relationship Id="rId28" Type="http://schemas.openxmlformats.org/officeDocument/2006/relationships/slide" Target=""/><Relationship Id="rId29" Type="http://schemas.openxmlformats.org/officeDocument/2006/relationships/slide" Target=""/><Relationship Id="rId30" Type="http://schemas.openxmlformats.org/officeDocument/2006/relationships/slide" Target=""/><Relationship Id="rId31" Type="http://schemas.openxmlformats.org/officeDocument/2006/relationships/slide" Target=""/><Relationship Id="rId32" Type="http://schemas.openxmlformats.org/officeDocument/2006/relationships/slide" Target=""/><Relationship Id="rId33" Type="http://schemas.openxmlformats.org/officeDocument/2006/relationships/slide" Target=""/><Relationship Id="rId34" Type="http://schemas.openxmlformats.org/officeDocument/2006/relationships/slide" Target=""/><Relationship Id="rId35" Type="http://schemas.openxmlformats.org/officeDocument/2006/relationships/slide" Target=""/><Relationship Id="rId36" Type="http://schemas.openxmlformats.org/officeDocument/2006/relationships/slide" Target=""/><Relationship Id="rId37" Type="http://schemas.openxmlformats.org/officeDocument/2006/relationships/slide" Target=""/><Relationship Id="rId38" Type="http://schemas.openxmlformats.org/officeDocument/2006/relationships/slide" Target=""/><Relationship Id="rId39" Type="http://schemas.openxmlformats.org/officeDocument/2006/relationships/slide" Target=""/><Relationship Id="rId4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oleObject" Target="../embeddings/oleObject1.bin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" Target=""/><Relationship Id="rId21" Type="http://schemas.openxmlformats.org/officeDocument/2006/relationships/hyperlink" Target="file:///tmp/home/.config/libreoffice/4/user/gallery/question.wav" TargetMode="External"/><Relationship Id="rId22" Type="http://schemas.openxmlformats.org/officeDocument/2006/relationships/hyperlink" Target="file:///tmp/home/.config/libreoffice/4/user/gallery/question.wav" TargetMode="External"/><Relationship Id="rId23" Type="http://schemas.openxmlformats.org/officeDocument/2006/relationships/hyperlink" Target="file:///tmp/home/.config/libreoffice/4/user/gallery/question.wav" TargetMode="External"/><Relationship Id="rId24" Type="http://schemas.openxmlformats.org/officeDocument/2006/relationships/hyperlink" Target="file:///tmp/home/.config/libreoffice/4/user/gallery/question.wav" TargetMode="External"/><Relationship Id="rId25" Type="http://schemas.openxmlformats.org/officeDocument/2006/relationships/hyperlink" Target="file:///tmp/home/.config/libreoffice/4/user/gallery/question.wav" TargetMode="External"/><Relationship Id="rId26" Type="http://schemas.openxmlformats.org/officeDocument/2006/relationships/hyperlink" Target="file:///tmp/home/.config/libreoffice/4/user/gallery/question.wav" TargetMode="External"/><Relationship Id="rId27" Type="http://schemas.openxmlformats.org/officeDocument/2006/relationships/hyperlink" Target="file:///tmp/home/.config/libreoffice/4/user/gallery/question.wav" TargetMode="External"/><Relationship Id="rId28" Type="http://schemas.openxmlformats.org/officeDocument/2006/relationships/hyperlink" Target="file:///tmp/home/.config/libreoffice/4/user/gallery/question.wav" TargetMode="External"/><Relationship Id="rId29" Type="http://schemas.openxmlformats.org/officeDocument/2006/relationships/hyperlink" Target="file:///tmp/home/.config/libreoffice/4/user/gallery/question.wav" TargetMode="External"/><Relationship Id="rId30" Type="http://schemas.openxmlformats.org/officeDocument/2006/relationships/hyperlink" Target="file:///tmp/home/.config/libreoffice/4/user/gallery/question.wav" TargetMode="External"/><Relationship Id="rId31" Type="http://schemas.openxmlformats.org/officeDocument/2006/relationships/hyperlink" Target="file:///tmp/home/.config/libreoffice/4/user/gallery/question.wav" TargetMode="External"/><Relationship Id="rId32" Type="http://schemas.openxmlformats.org/officeDocument/2006/relationships/hyperlink" Target="file:///tmp/home/.config/libreoffice/4/user/gallery/question.wav" TargetMode="External"/><Relationship Id="rId33" Type="http://schemas.openxmlformats.org/officeDocument/2006/relationships/hyperlink" Target="file:///tmp/home/.config/libreoffice/4/user/gallery/question.wav" TargetMode="External"/><Relationship Id="rId34" Type="http://schemas.openxmlformats.org/officeDocument/2006/relationships/hyperlink" Target="file:///tmp/home/.config/libreoffice/4/user/gallery/question.wav" TargetMode="External"/><Relationship Id="rId35" Type="http://schemas.openxmlformats.org/officeDocument/2006/relationships/hyperlink" Target="file:///tmp/home/.config/libreoffice/4/user/gallery/question.wav" TargetMode="External"/><Relationship Id="rId3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2928960" cy="6019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886200" y="380880"/>
            <a:ext cx="4170240" cy="13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elcome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638680" y="2459160"/>
            <a:ext cx="747720" cy="112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to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886200" y="4035600"/>
            <a:ext cx="4041720" cy="221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latin typeface="Impact"/>
              </a:rPr>
              <a:t>Jeopardy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latin typeface="Impact"/>
              <a:ea typeface="Impact"/>
            </a:endParaRPr>
          </a:p>
        </p:txBody>
      </p:sp>
      <p:pic>
        <p:nvPicPr>
          <p:cNvPr id="45" name="" descr=""/>
          <p:cNvPicPr/>
          <p:nvPr/>
        </p:nvPicPr>
        <p:blipFill>
          <a:blip r:embed="rId6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trauß, Drache, Qualle, Fros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rac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rId2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rId3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öwe. Maus, Papagei, Büff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apage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rId2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rId3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________ geht’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i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rId2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>
            <a:hlinkClick r:id="rId3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________ ist da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er or W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>
            <a:hlinkClick r:id="rId2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>
            <a:hlinkClick r:id="rId3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________ heisst d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i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>
            <a:hlinkClick r:id="rId2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>
            <a:hlinkClick r:id="rId3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7" name="">
              <a:hlinkClick r:id="rId1" action="ppaction://hlinksldjump"/>
            </p:cNvPr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6935760" y="2003400"/>
              <a:ext cx="1827360" cy="439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3"/>
            <a:stretch/>
          </p:blipFill>
          <p:spPr>
            <a:xfrm>
              <a:off x="3429000" y="2136600"/>
              <a:ext cx="2249640" cy="403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4"/>
            <a:stretch/>
          </p:blipFill>
          <p:spPr>
            <a:xfrm>
              <a:off x="457200" y="2009880"/>
              <a:ext cx="2003400" cy="416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"/>
          <p:cNvSpPr/>
          <p:nvPr/>
        </p:nvSpPr>
        <p:spPr>
          <a:xfrm>
            <a:off x="304920" y="4343400"/>
            <a:ext cx="2286000" cy="2514600"/>
          </a:xfrm>
          <a:prstGeom prst="flowChartAlternateProcess">
            <a:avLst/>
          </a:prstGeom>
          <a:gradFill rotWithShape="0">
            <a:gsLst>
              <a:gs pos="0">
                <a:srgbClr val="ffffff"/>
              </a:gs>
              <a:gs pos="50000">
                <a:srgbClr val="3366ff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2120" y="4876920"/>
            <a:ext cx="1870200" cy="1846080"/>
          </a:xfrm>
          <a:prstGeom prst="flowChartAlternateProcess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eam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4343400"/>
            <a:ext cx="2286000" cy="2514600"/>
          </a:xfrm>
          <a:prstGeom prst="flowChartAlternateProcess">
            <a:avLst/>
          </a:prstGeom>
          <a:gradFill rotWithShape="0">
            <a:gsLst>
              <a:gs pos="0">
                <a:srgbClr val="ffffff"/>
              </a:gs>
              <a:gs pos="50000">
                <a:srgbClr val="3366ff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16200" y="4876920"/>
            <a:ext cx="1870200" cy="1846080"/>
          </a:xfrm>
          <a:prstGeom prst="flowChartAlternateProcess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eam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629400" y="4346640"/>
            <a:ext cx="2286000" cy="2514600"/>
          </a:xfrm>
          <a:prstGeom prst="flowChartAlternateProcess">
            <a:avLst/>
          </a:prstGeom>
          <a:gradFill rotWithShape="0">
            <a:gsLst>
              <a:gs pos="0">
                <a:srgbClr val="ffffff"/>
              </a:gs>
              <a:gs pos="50000">
                <a:srgbClr val="3366ff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1520" y="4879800"/>
            <a:ext cx="1870200" cy="1846440"/>
          </a:xfrm>
          <a:prstGeom prst="flowChartAlternateProcess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eam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5" action="ppaction://hlinksldjump"/>
          </p:cNvPr>
          <p:cNvSpPr/>
          <p:nvPr/>
        </p:nvSpPr>
        <p:spPr>
          <a:xfrm>
            <a:off x="0" y="0"/>
            <a:ext cx="1219320" cy="914400"/>
          </a:xfrm>
          <a:custGeom>
            <a:avLst/>
            <a:gdLst>
              <a:gd name="textAreaLeft" fmla="*/ 107640 w 1219320"/>
              <a:gd name="textAreaRight" fmla="*/ 1111680 w 121932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8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200" y="21600"/>
                </a:lnTo>
                <a:arcTo wR="3600" hR="3600" stAng="10800000" swAng="5400000"/>
                <a:lnTo>
                  <a:pt x="28800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6" action="ppaction://hlinksldjump"/>
          </p:cNvPr>
          <p:cNvSpPr/>
          <p:nvPr/>
        </p:nvSpPr>
        <p:spPr>
          <a:xfrm>
            <a:off x="34920" y="3049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7" action="ppaction://hlinksldjump"/>
          </p:cNvPr>
          <p:cNvSpPr/>
          <p:nvPr/>
        </p:nvSpPr>
        <p:spPr>
          <a:xfrm>
            <a:off x="2743200" y="0"/>
            <a:ext cx="1219320" cy="914400"/>
          </a:xfrm>
          <a:custGeom>
            <a:avLst/>
            <a:gdLst>
              <a:gd name="textAreaLeft" fmla="*/ 107640 w 1219320"/>
              <a:gd name="textAreaRight" fmla="*/ 1111680 w 121932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8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200" y="21600"/>
                </a:lnTo>
                <a:arcTo wR="3600" hR="3600" stAng="10800000" swAng="5400000"/>
                <a:lnTo>
                  <a:pt x="28800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8" action="ppaction://hlinksldjump"/>
          </p:cNvPr>
          <p:cNvSpPr/>
          <p:nvPr/>
        </p:nvSpPr>
        <p:spPr>
          <a:xfrm>
            <a:off x="2784600" y="18108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nal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eopar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133720" y="0"/>
            <a:ext cx="4787640" cy="628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ail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oub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ailydou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______ geht es Ihne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i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rId2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>
            <a:hlinkClick r:id="rId3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______ bin ich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>
            <a:hlinkClick r:id="rId2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>
            <a:hlinkClick r:id="rId3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ie heisst du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ch heisse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>
            <a:hlinkClick r:id="rId2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>
            <a:hlinkClick r:id="rId3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er ist da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3505320" y="3352680"/>
            <a:ext cx="21142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s ist Brad Pit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>
            <a:hlinkClick r:id="rId2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>
            <a:hlinkClick r:id="rId3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ie geht’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804960"/>
            <a:ext cx="8381880" cy="61722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762120"/>
            <a:ext cx="1193760" cy="102384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26360" y="773280"/>
            <a:ext cx="1193760" cy="102204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232240" y="773280"/>
            <a:ext cx="1194120" cy="102204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038480" y="773280"/>
            <a:ext cx="1193760" cy="102204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44720" y="773280"/>
            <a:ext cx="1193760" cy="102204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50960" y="773280"/>
            <a:ext cx="1193760" cy="102204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804960"/>
            <a:ext cx="106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as passt nicht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76520" y="804960"/>
            <a:ext cx="106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r, Wie, W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95480" y="92556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ra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14800" y="92556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-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81480" y="803160"/>
            <a:ext cx="12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la-tions and spel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77120" y="92556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ttle sto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178596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1" action="ppaction://hlinksldjump"/>
          </p:cNvPr>
          <p:cNvSpPr/>
          <p:nvPr/>
        </p:nvSpPr>
        <p:spPr>
          <a:xfrm>
            <a:off x="457200" y="20383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50960" y="178596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2" action="ppaction://hlinksldjump"/>
          </p:cNvPr>
          <p:cNvSpPr/>
          <p:nvPr/>
        </p:nvSpPr>
        <p:spPr>
          <a:xfrm>
            <a:off x="1600200" y="20383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44720" y="178596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3" action="ppaction://hlinksldjump"/>
          </p:cNvPr>
          <p:cNvSpPr/>
          <p:nvPr/>
        </p:nvSpPr>
        <p:spPr>
          <a:xfrm>
            <a:off x="2819520" y="203832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038480" y="178596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4" action="ppaction://hlinksldjump"/>
          </p:cNvPr>
          <p:cNvSpPr/>
          <p:nvPr/>
        </p:nvSpPr>
        <p:spPr>
          <a:xfrm>
            <a:off x="4038480" y="20383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2240" y="1785960"/>
            <a:ext cx="119412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5" action="ppaction://hlinksldjump"/>
          </p:cNvPr>
          <p:cNvSpPr/>
          <p:nvPr/>
        </p:nvSpPr>
        <p:spPr>
          <a:xfrm>
            <a:off x="5181480" y="20383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26360" y="178596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6" action="ppaction://hlinksldjump"/>
          </p:cNvPr>
          <p:cNvSpPr/>
          <p:nvPr/>
        </p:nvSpPr>
        <p:spPr>
          <a:xfrm>
            <a:off x="6400800" y="20383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280836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rId7" action="ppaction://hlinksldjump"/>
          </p:cNvPr>
          <p:cNvSpPr/>
          <p:nvPr/>
        </p:nvSpPr>
        <p:spPr>
          <a:xfrm>
            <a:off x="457200" y="302904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50960" y="280836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8" action="ppaction://hlinksldjump"/>
          </p:cNvPr>
          <p:cNvSpPr/>
          <p:nvPr/>
        </p:nvSpPr>
        <p:spPr>
          <a:xfrm>
            <a:off x="1600200" y="302904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44720" y="280836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9" action="ppaction://hlinksldjump"/>
          </p:cNvPr>
          <p:cNvSpPr/>
          <p:nvPr/>
        </p:nvSpPr>
        <p:spPr>
          <a:xfrm>
            <a:off x="2819520" y="302904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38480" y="280836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10" action="ppaction://hlinksldjump"/>
          </p:cNvPr>
          <p:cNvSpPr/>
          <p:nvPr/>
        </p:nvSpPr>
        <p:spPr>
          <a:xfrm>
            <a:off x="4038480" y="302904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232240" y="2808360"/>
            <a:ext cx="119412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rId11" action="ppaction://hlinksldjump"/>
          </p:cNvPr>
          <p:cNvSpPr/>
          <p:nvPr/>
        </p:nvSpPr>
        <p:spPr>
          <a:xfrm>
            <a:off x="5181480" y="302904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426360" y="280836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12" action="ppaction://hlinksldjump"/>
          </p:cNvPr>
          <p:cNvSpPr/>
          <p:nvPr/>
        </p:nvSpPr>
        <p:spPr>
          <a:xfrm>
            <a:off x="6400800" y="302904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383220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13" action="ppaction://hlinksldjump"/>
          </p:cNvPr>
          <p:cNvSpPr/>
          <p:nvPr/>
        </p:nvSpPr>
        <p:spPr>
          <a:xfrm>
            <a:off x="457200" y="40957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50960" y="383220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14" action="ppaction://hlinksldjump"/>
          </p:cNvPr>
          <p:cNvSpPr/>
          <p:nvPr/>
        </p:nvSpPr>
        <p:spPr>
          <a:xfrm>
            <a:off x="1600200" y="40957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44720" y="383220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15" action="ppaction://hlinksldjump"/>
          </p:cNvPr>
          <p:cNvSpPr/>
          <p:nvPr/>
        </p:nvSpPr>
        <p:spPr>
          <a:xfrm>
            <a:off x="2819520" y="409572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038480" y="383220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16" action="ppaction://hlinksldjump"/>
          </p:cNvPr>
          <p:cNvSpPr/>
          <p:nvPr/>
        </p:nvSpPr>
        <p:spPr>
          <a:xfrm>
            <a:off x="4038480" y="40957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232240" y="3832200"/>
            <a:ext cx="119412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rId17" action="ppaction://hlinksldjump"/>
          </p:cNvPr>
          <p:cNvSpPr/>
          <p:nvPr/>
        </p:nvSpPr>
        <p:spPr>
          <a:xfrm>
            <a:off x="5181480" y="40957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26360" y="383220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18" action="ppaction://hlinksldjump"/>
          </p:cNvPr>
          <p:cNvSpPr/>
          <p:nvPr/>
        </p:nvSpPr>
        <p:spPr>
          <a:xfrm>
            <a:off x="6400800" y="40957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485460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rId19" action="ppaction://hlinksldjump"/>
          </p:cNvPr>
          <p:cNvSpPr/>
          <p:nvPr/>
        </p:nvSpPr>
        <p:spPr>
          <a:xfrm>
            <a:off x="457200" y="508644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50960" y="485460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rId20" action="ppaction://hlinksldjump"/>
          </p:cNvPr>
          <p:cNvSpPr/>
          <p:nvPr/>
        </p:nvSpPr>
        <p:spPr>
          <a:xfrm>
            <a:off x="1600200" y="508644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44720" y="485460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21" action="ppaction://hlinksldjump"/>
          </p:cNvPr>
          <p:cNvSpPr/>
          <p:nvPr/>
        </p:nvSpPr>
        <p:spPr>
          <a:xfrm>
            <a:off x="2819520" y="508644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485460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22" action="ppaction://hlinksldjump"/>
          </p:cNvPr>
          <p:cNvSpPr/>
          <p:nvPr/>
        </p:nvSpPr>
        <p:spPr>
          <a:xfrm>
            <a:off x="4038480" y="508644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32240" y="4854600"/>
            <a:ext cx="119412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rId23" action="ppaction://hlinksldjump"/>
          </p:cNvPr>
          <p:cNvSpPr/>
          <p:nvPr/>
        </p:nvSpPr>
        <p:spPr>
          <a:xfrm>
            <a:off x="5181480" y="508644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426360" y="485460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rId24" action="ppaction://hlinksldjump"/>
          </p:cNvPr>
          <p:cNvSpPr/>
          <p:nvPr/>
        </p:nvSpPr>
        <p:spPr>
          <a:xfrm>
            <a:off x="6400800" y="508644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587844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rId25" action="ppaction://hlinksldjump"/>
          </p:cNvPr>
          <p:cNvSpPr/>
          <p:nvPr/>
        </p:nvSpPr>
        <p:spPr>
          <a:xfrm>
            <a:off x="457200" y="61531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50960" y="587844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26" action="ppaction://hlinksldjump"/>
          </p:cNvPr>
          <p:cNvSpPr/>
          <p:nvPr/>
        </p:nvSpPr>
        <p:spPr>
          <a:xfrm>
            <a:off x="1600200" y="61531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44720" y="587844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27" action="ppaction://hlinksldjump"/>
          </p:cNvPr>
          <p:cNvSpPr/>
          <p:nvPr/>
        </p:nvSpPr>
        <p:spPr>
          <a:xfrm>
            <a:off x="2819520" y="615312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587844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28" action="ppaction://hlinksldjump"/>
          </p:cNvPr>
          <p:cNvSpPr/>
          <p:nvPr/>
        </p:nvSpPr>
        <p:spPr>
          <a:xfrm>
            <a:off x="4038480" y="61531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32240" y="5878440"/>
            <a:ext cx="119412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29" action="ppaction://hlinksldjump"/>
          </p:cNvPr>
          <p:cNvSpPr/>
          <p:nvPr/>
        </p:nvSpPr>
        <p:spPr>
          <a:xfrm>
            <a:off x="5181480" y="61531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26360" y="587844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30" action="ppaction://hlinksldjump"/>
          </p:cNvPr>
          <p:cNvSpPr/>
          <p:nvPr/>
        </p:nvSpPr>
        <p:spPr>
          <a:xfrm>
            <a:off x="6400800" y="61531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rId31" action="ppaction://hlinksldjump"/>
          </p:cNvPr>
          <p:cNvSpPr/>
          <p:nvPr/>
        </p:nvSpPr>
        <p:spPr>
          <a:xfrm>
            <a:off x="5943600" y="-152280"/>
            <a:ext cx="1219320" cy="914400"/>
          </a:xfrm>
          <a:custGeom>
            <a:avLst/>
            <a:gdLst>
              <a:gd name="textAreaLeft" fmla="*/ 107640 w 1219320"/>
              <a:gd name="textAreaRight" fmla="*/ 1111680 w 121932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8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200" y="21600"/>
                </a:lnTo>
                <a:arcTo wR="3600" hR="3600" stAng="10800000" swAng="5400000"/>
                <a:lnTo>
                  <a:pt x="28800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rId32" action="ppaction://hlinksldjump"/>
          </p:cNvPr>
          <p:cNvSpPr/>
          <p:nvPr/>
        </p:nvSpPr>
        <p:spPr>
          <a:xfrm>
            <a:off x="6019920" y="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nal Jeopar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rId33" action="ppaction://hlinksldjump"/>
          </p:cNvPr>
          <p:cNvSpPr/>
          <p:nvPr/>
        </p:nvSpPr>
        <p:spPr>
          <a:xfrm>
            <a:off x="7162920" y="-15228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34" action="ppaction://hlinksldjump"/>
          </p:cNvPr>
          <p:cNvSpPr/>
          <p:nvPr/>
        </p:nvSpPr>
        <p:spPr>
          <a:xfrm>
            <a:off x="7203960" y="15228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45320" y="773280"/>
            <a:ext cx="1193760" cy="102204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96080" y="92556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ch, du, er, s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45320" y="178596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rId35" action="ppaction://hlinksldjump"/>
          </p:cNvPr>
          <p:cNvSpPr/>
          <p:nvPr/>
        </p:nvSpPr>
        <p:spPr>
          <a:xfrm>
            <a:off x="7620120" y="203832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45320" y="280836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rId36" action="ppaction://hlinksldjump"/>
          </p:cNvPr>
          <p:cNvSpPr/>
          <p:nvPr/>
        </p:nvSpPr>
        <p:spPr>
          <a:xfrm>
            <a:off x="7620120" y="302904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45320" y="383220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rId37" action="ppaction://hlinksldjump"/>
          </p:cNvPr>
          <p:cNvSpPr/>
          <p:nvPr/>
        </p:nvSpPr>
        <p:spPr>
          <a:xfrm>
            <a:off x="7620120" y="409572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45320" y="485460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rId38" action="ppaction://hlinksldjump"/>
          </p:cNvPr>
          <p:cNvSpPr/>
          <p:nvPr/>
        </p:nvSpPr>
        <p:spPr>
          <a:xfrm>
            <a:off x="7620120" y="508644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45320" y="587844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39" action="ppaction://hlinksldjump"/>
          </p:cNvPr>
          <p:cNvSpPr/>
          <p:nvPr/>
        </p:nvSpPr>
        <p:spPr>
          <a:xfrm>
            <a:off x="7620120" y="615312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04920" y="2498760"/>
            <a:ext cx="8381880" cy="13129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ut.  Schlecht.  Answers will var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>
            <a:hlinkClick r:id="rId2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>
            <a:hlinkClick r:id="rId3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as machst du ger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3505320" y="3581280"/>
            <a:ext cx="20318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ch telefoniere ger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>
            <a:hlinkClick r:id="rId2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>
            <a:hlinkClick r:id="rId3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as macht er ger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3352680" y="335268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r spielt Fussball ger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>
            <a:hlinkClick r:id="rId2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>
            <a:hlinkClick r:id="rId3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 skat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ch skat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>
            <a:hlinkClick r:id="rId2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>
            <a:hlinkClick r:id="rId3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You climb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u kletters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>
            <a:hlinkClick r:id="rId2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>
            <a:hlinkClick r:id="rId3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 is calle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ennis, Fussball, Hotel, Pia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r heiss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>
            <a:hlinkClick r:id="rId2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>
            <a:hlinkClick r:id="rId3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 a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ch bi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>
            <a:hlinkClick r:id="rId2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>
            <a:hlinkClick r:id="rId3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he is play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ie spiel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>
            <a:hlinkClick r:id="rId2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>
            <a:hlinkClick r:id="rId3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anz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>
            <a:hlinkClick r:id="rId2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>
            <a:hlinkClick r:id="rId3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o kar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Karate mach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>
            <a:hlinkClick r:id="rId2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>
            <a:hlinkClick r:id="rId3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wi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t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rId2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rId3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chwimm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>
            <a:hlinkClick r:id="rId2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>
            <a:hlinkClick r:id="rId3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o par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artys mach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>
            <a:hlinkClick r:id="rId2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>
            <a:hlinkClick r:id="rId3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Use the compu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en Computer benutz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>
            <a:hlinkClick r:id="rId2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>
            <a:hlinkClick r:id="rId3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04920" y="2498760"/>
            <a:ext cx="8381880" cy="22399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s ist Rita.  Rita ist eine Eule.  Sie spielt Gitar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animal is Rit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04920" y="2498760"/>
            <a:ext cx="8381880" cy="7016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>
            <a:hlinkClick r:id="rId2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>
            <a:hlinkClick r:id="rId3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57200" y="265104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w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04920" y="2498760"/>
            <a:ext cx="8381880" cy="28494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ianca schwimmt gern.  Aber Mara schwimmt nicht gern.  Sie tanzt ger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does Mara like to d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>
            <a:hlinkClick r:id="rId2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>
            <a:hlinkClick r:id="rId3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he likes to danc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04920" y="2498760"/>
            <a:ext cx="8381880" cy="34588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r heisst Bello.  Er ist in einem Hotel in Berlin.  Er benutzt den Computer im Hotel.  Er malt auch.  Er spielt nicht Fussbal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Bello doing in the hotel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chokolade, Musik, Violine, Pia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>
            <a:hlinkClick r:id="rId2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>
            <a:hlinkClick r:id="rId3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04920" y="2498760"/>
            <a:ext cx="8381880" cy="13129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 is drawing and using the comput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04920" y="1828800"/>
            <a:ext cx="8381880" cy="40683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as machst du gern?  Tanzt du gern?  Ich mache gern Partys und telefoniere. Mein Telefon Nummer ist sieben, drei, acht, zwei.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the telephone number mentione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>
            <a:hlinkClick r:id="rId2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>
            <a:hlinkClick r:id="rId3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7,3,8,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04920" y="2498760"/>
            <a:ext cx="8381880" cy="34588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as mache ich gern?  Ich benutze einen Pferd.  Ich sitze auf dem Pferd und ich geh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ased on the clues:  what activity do I like to do?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>
            <a:hlinkClick r:id="rId2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>
            <a:hlinkClick r:id="rId3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______ spiele Tenni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>
            <a:hlinkClick r:id="rId2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>
            <a:hlinkClick r:id="rId3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______ reitet ger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r or Si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>
            <a:hlinkClick r:id="rId2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>
            <a:hlinkClick r:id="rId3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______ bin fünf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chokola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rId2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rId3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>
            <a:hlinkClick r:id="rId2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>
            <a:hlinkClick r:id="rId3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chwimmst _____ ger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>
            <a:hlinkClick r:id="rId2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>
            <a:hlinkClick r:id="rId3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04920" y="2498760"/>
            <a:ext cx="8381880" cy="13129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______ ist Frau Schlau und spielt Tenni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i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>
            <a:hlinkClick r:id="rId2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>
            <a:hlinkClick r:id="rId3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2209680" y="223920"/>
            <a:ext cx="489456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Final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9" name="">
            <a:hlinkClick r:id="rId5" action="ppaction://hlinksldjump"/>
          </p:cNvPr>
          <p:cNvSpPr/>
          <p:nvPr/>
        </p:nvSpPr>
        <p:spPr>
          <a:xfrm>
            <a:off x="3352680" y="5943600"/>
            <a:ext cx="1219320" cy="914400"/>
          </a:xfrm>
          <a:custGeom>
            <a:avLst/>
            <a:gdLst>
              <a:gd name="textAreaLeft" fmla="*/ 107640 w 1219320"/>
              <a:gd name="textAreaRight" fmla="*/ 1111680 w 121932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8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200" y="21600"/>
                </a:lnTo>
                <a:arcTo wR="3600" hR="3600" stAng="10800000" swAng="5400000"/>
                <a:lnTo>
                  <a:pt x="28800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>
            <a:hlinkClick r:id="rId6" action="ppaction://hlinksldjump"/>
          </p:cNvPr>
          <p:cNvSpPr/>
          <p:nvPr/>
        </p:nvSpPr>
        <p:spPr>
          <a:xfrm>
            <a:off x="339408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425124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erman gramm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>
            <a:hlinkClick r:id="rId7" action="ppaction://hlinksldjump"/>
          </p:cNvPr>
          <p:cNvSpPr/>
          <p:nvPr/>
        </p:nvSpPr>
        <p:spPr>
          <a:xfrm>
            <a:off x="4952880" y="5946840"/>
            <a:ext cx="1219320" cy="914400"/>
          </a:xfrm>
          <a:custGeom>
            <a:avLst/>
            <a:gdLst>
              <a:gd name="textAreaLeft" fmla="*/ 107640 w 1219320"/>
              <a:gd name="textAreaRight" fmla="*/ 1111680 w 121932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8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200" y="21600"/>
                </a:lnTo>
                <a:arcTo wR="3600" hR="3600" stAng="10800000" swAng="5400000"/>
                <a:lnTo>
                  <a:pt x="28800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>
            <a:hlinkClick r:id="rId8" action="ppaction://hlinksldjump"/>
          </p:cNvPr>
          <p:cNvSpPr/>
          <p:nvPr/>
        </p:nvSpPr>
        <p:spPr>
          <a:xfrm>
            <a:off x="4994280" y="60199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nal Jeopardy Ques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4373640" y="3840120"/>
          <a:ext cx="474480" cy="474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73640" y="3840120"/>
                    <a:ext cx="47448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28600" y="304920"/>
            <a:ext cx="8381880" cy="53128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all three question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w many conjugated German verbs per sentence?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w do you conjugate a verb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words are never allowed to be in a German sentence with a conjugated verb (there are 3)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1" fill="hold"/>
                                        <p:tgtEl>
                                          <p:spTgt spid="4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57200" y="304920"/>
            <a:ext cx="8381880" cy="56048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ne conjugated verb per sentenc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ake away “en”, you’re left with the stem.  Ich add “e”, du – “st”, er, sie – add “t”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ever put “bin, bist” or “ist” in sentence with another conjugated verb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>
            <a:hlinkClick r:id="rId1" action="ppaction://hlinksldjump"/>
          </p:cNvPr>
          <p:cNvSpPr/>
          <p:nvPr/>
        </p:nvSpPr>
        <p:spPr>
          <a:xfrm>
            <a:off x="3886200" y="5943600"/>
            <a:ext cx="1219320" cy="914400"/>
          </a:xfrm>
          <a:custGeom>
            <a:avLst/>
            <a:gdLst>
              <a:gd name="textAreaLeft" fmla="*/ 107640 w 1219320"/>
              <a:gd name="textAreaRight" fmla="*/ 1111680 w 121932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8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200" y="21600"/>
                </a:lnTo>
                <a:arcTo wR="3600" hR="3600" stAng="10800000" swAng="5400000"/>
                <a:lnTo>
                  <a:pt x="28800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>
            <a:hlinkClick r:id="rId2" action="ppaction://hlinksldjump"/>
          </p:cNvPr>
          <p:cNvSpPr/>
          <p:nvPr/>
        </p:nvSpPr>
        <p:spPr>
          <a:xfrm>
            <a:off x="392760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1520640"/>
            <a:ext cx="777240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57200" y="195120"/>
            <a:ext cx="8381880" cy="61722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57200" y="152280"/>
            <a:ext cx="1193760" cy="102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426360" y="163440"/>
            <a:ext cx="1193760" cy="1022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232240" y="163440"/>
            <a:ext cx="1194120" cy="1022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038480" y="163440"/>
            <a:ext cx="1193760" cy="1022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844720" y="163440"/>
            <a:ext cx="1193760" cy="1022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650960" y="163440"/>
            <a:ext cx="1193760" cy="1022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33520" y="195120"/>
            <a:ext cx="10666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s passt nicht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676520" y="195120"/>
            <a:ext cx="10666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r, Wie, W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895480" y="316080"/>
            <a:ext cx="1067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114800" y="316080"/>
            <a:ext cx="10666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-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181480" y="193680"/>
            <a:ext cx="129564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la-tions and spel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477120" y="316080"/>
            <a:ext cx="10666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ttle sto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57200" y="1176480"/>
            <a:ext cx="1193760" cy="1022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>
            <a:hlinkClick r:id="rId1" action="ppaction://hlinksldjump"/>
          </p:cNvPr>
          <p:cNvSpPr/>
          <p:nvPr/>
        </p:nvSpPr>
        <p:spPr>
          <a:xfrm>
            <a:off x="457200" y="1428840"/>
            <a:ext cx="1219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650960" y="1176480"/>
            <a:ext cx="1193760" cy="1022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>
            <a:hlinkClick r:id="rId2" action="ppaction://hlinksldjump"/>
          </p:cNvPr>
          <p:cNvSpPr/>
          <p:nvPr/>
        </p:nvSpPr>
        <p:spPr>
          <a:xfrm>
            <a:off x="1600200" y="1428840"/>
            <a:ext cx="1219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844720" y="1176480"/>
            <a:ext cx="1193760" cy="1022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>
            <a:hlinkClick r:id="rId3" action="ppaction://hlinksldjump"/>
          </p:cNvPr>
          <p:cNvSpPr/>
          <p:nvPr/>
        </p:nvSpPr>
        <p:spPr>
          <a:xfrm>
            <a:off x="2819520" y="1428840"/>
            <a:ext cx="12189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038480" y="1176480"/>
            <a:ext cx="1193760" cy="1022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>
            <a:hlinkClick r:id="rId4" action="ppaction://hlinksldjump"/>
          </p:cNvPr>
          <p:cNvSpPr/>
          <p:nvPr/>
        </p:nvSpPr>
        <p:spPr>
          <a:xfrm>
            <a:off x="4038480" y="1428840"/>
            <a:ext cx="1219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232240" y="1176480"/>
            <a:ext cx="1194120" cy="1022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>
            <a:hlinkClick r:id="rId5" action="ppaction://hlinksldjump"/>
          </p:cNvPr>
          <p:cNvSpPr/>
          <p:nvPr/>
        </p:nvSpPr>
        <p:spPr>
          <a:xfrm>
            <a:off x="5181480" y="1428840"/>
            <a:ext cx="1219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426360" y="1176480"/>
            <a:ext cx="1193760" cy="1022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>
            <a:hlinkClick r:id="rId6" action="ppaction://hlinksldjump"/>
          </p:cNvPr>
          <p:cNvSpPr/>
          <p:nvPr/>
        </p:nvSpPr>
        <p:spPr>
          <a:xfrm>
            <a:off x="6400800" y="1428840"/>
            <a:ext cx="1219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57200" y="2198520"/>
            <a:ext cx="1193760" cy="102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>
            <a:hlinkClick r:id="rId7" action="ppaction://hlinksldjump"/>
          </p:cNvPr>
          <p:cNvSpPr/>
          <p:nvPr/>
        </p:nvSpPr>
        <p:spPr>
          <a:xfrm>
            <a:off x="457200" y="2419200"/>
            <a:ext cx="1219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650960" y="2198520"/>
            <a:ext cx="1193760" cy="102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>
            <a:hlinkClick r:id="rId8" action="ppaction://hlinksldjump"/>
          </p:cNvPr>
          <p:cNvSpPr/>
          <p:nvPr/>
        </p:nvSpPr>
        <p:spPr>
          <a:xfrm>
            <a:off x="1600200" y="2419200"/>
            <a:ext cx="1219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844720" y="2198520"/>
            <a:ext cx="1193760" cy="102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>
            <a:hlinkClick r:id="rId9" action="ppaction://hlinksldjump"/>
          </p:cNvPr>
          <p:cNvSpPr/>
          <p:nvPr/>
        </p:nvSpPr>
        <p:spPr>
          <a:xfrm>
            <a:off x="2819520" y="2419200"/>
            <a:ext cx="12189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038480" y="2198520"/>
            <a:ext cx="1193760" cy="102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>
            <a:hlinkClick r:id="rId10" action="ppaction://hlinksldjump"/>
          </p:cNvPr>
          <p:cNvSpPr/>
          <p:nvPr/>
        </p:nvSpPr>
        <p:spPr>
          <a:xfrm>
            <a:off x="4038480" y="2419200"/>
            <a:ext cx="1219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232240" y="2198520"/>
            <a:ext cx="1194120" cy="102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>
            <a:hlinkClick r:id="rId11" action="ppaction://hlinksldjump"/>
          </p:cNvPr>
          <p:cNvSpPr/>
          <p:nvPr/>
        </p:nvSpPr>
        <p:spPr>
          <a:xfrm>
            <a:off x="5181480" y="2419200"/>
            <a:ext cx="1219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426360" y="2198520"/>
            <a:ext cx="1193760" cy="102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>
            <a:hlinkClick r:id="rId12" action="ppaction://hlinksldjump"/>
          </p:cNvPr>
          <p:cNvSpPr/>
          <p:nvPr/>
        </p:nvSpPr>
        <p:spPr>
          <a:xfrm>
            <a:off x="6400800" y="2419200"/>
            <a:ext cx="1219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57200" y="3222720"/>
            <a:ext cx="1193760" cy="1022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>
            <a:hlinkClick r:id="rId13" action="ppaction://hlinksldjump"/>
          </p:cNvPr>
          <p:cNvSpPr/>
          <p:nvPr/>
        </p:nvSpPr>
        <p:spPr>
          <a:xfrm>
            <a:off x="457200" y="3486240"/>
            <a:ext cx="1219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650960" y="3222720"/>
            <a:ext cx="1193760" cy="1022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>
            <a:hlinkClick r:id="rId14" action="ppaction://hlinksldjump"/>
          </p:cNvPr>
          <p:cNvSpPr/>
          <p:nvPr/>
        </p:nvSpPr>
        <p:spPr>
          <a:xfrm>
            <a:off x="1600200" y="3486240"/>
            <a:ext cx="1219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844720" y="3222720"/>
            <a:ext cx="1193760" cy="1022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>
            <a:hlinkClick r:id="rId15" action="ppaction://hlinksldjump"/>
          </p:cNvPr>
          <p:cNvSpPr/>
          <p:nvPr/>
        </p:nvSpPr>
        <p:spPr>
          <a:xfrm>
            <a:off x="2819520" y="3486240"/>
            <a:ext cx="12189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038480" y="3222720"/>
            <a:ext cx="1193760" cy="1022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>
            <a:hlinkClick r:id="rId16" action="ppaction://hlinksldjump"/>
          </p:cNvPr>
          <p:cNvSpPr/>
          <p:nvPr/>
        </p:nvSpPr>
        <p:spPr>
          <a:xfrm>
            <a:off x="4038480" y="3486240"/>
            <a:ext cx="1219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232240" y="3222720"/>
            <a:ext cx="1194120" cy="1022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>
            <a:hlinkClick r:id="rId17" action="ppaction://hlinksldjump"/>
          </p:cNvPr>
          <p:cNvSpPr/>
          <p:nvPr/>
        </p:nvSpPr>
        <p:spPr>
          <a:xfrm>
            <a:off x="5181480" y="3486240"/>
            <a:ext cx="1219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426360" y="3222720"/>
            <a:ext cx="1193760" cy="1022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>
            <a:hlinkClick r:id="rId18" action="ppaction://hlinksldjump"/>
          </p:cNvPr>
          <p:cNvSpPr/>
          <p:nvPr/>
        </p:nvSpPr>
        <p:spPr>
          <a:xfrm>
            <a:off x="6400800" y="3486240"/>
            <a:ext cx="1219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57200" y="4245120"/>
            <a:ext cx="1193760" cy="1023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>
            <a:hlinkClick r:id="rId19" action="ppaction://hlinksldjump"/>
          </p:cNvPr>
          <p:cNvSpPr/>
          <p:nvPr/>
        </p:nvSpPr>
        <p:spPr>
          <a:xfrm>
            <a:off x="457200" y="4476600"/>
            <a:ext cx="1219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650960" y="4245120"/>
            <a:ext cx="1193760" cy="1023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>
            <a:hlinkClick r:id="rId20" action="ppaction://hlinksldjump"/>
          </p:cNvPr>
          <p:cNvSpPr/>
          <p:nvPr/>
        </p:nvSpPr>
        <p:spPr>
          <a:xfrm>
            <a:off x="1600200" y="4476600"/>
            <a:ext cx="1219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844720" y="4245120"/>
            <a:ext cx="1193760" cy="1023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>
            <a:hlinkClick r:id="rId21"/>
          </p:cNvPr>
          <p:cNvSpPr/>
          <p:nvPr/>
        </p:nvSpPr>
        <p:spPr>
          <a:xfrm>
            <a:off x="2819520" y="4476600"/>
            <a:ext cx="12189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038480" y="4245120"/>
            <a:ext cx="1193760" cy="1023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>
            <a:hlinkClick r:id="rId22"/>
          </p:cNvPr>
          <p:cNvSpPr/>
          <p:nvPr/>
        </p:nvSpPr>
        <p:spPr>
          <a:xfrm>
            <a:off x="4038480" y="4476600"/>
            <a:ext cx="1219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232240" y="4245120"/>
            <a:ext cx="1194120" cy="1023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>
            <a:hlinkClick r:id="rId23"/>
          </p:cNvPr>
          <p:cNvSpPr/>
          <p:nvPr/>
        </p:nvSpPr>
        <p:spPr>
          <a:xfrm>
            <a:off x="5181480" y="4476600"/>
            <a:ext cx="1219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426360" y="4245120"/>
            <a:ext cx="1193760" cy="1023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>
            <a:hlinkClick r:id="rId24"/>
          </p:cNvPr>
          <p:cNvSpPr/>
          <p:nvPr/>
        </p:nvSpPr>
        <p:spPr>
          <a:xfrm>
            <a:off x="6400800" y="4476600"/>
            <a:ext cx="1219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57200" y="5268960"/>
            <a:ext cx="1193760" cy="1022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>
            <a:hlinkClick r:id="rId25"/>
          </p:cNvPr>
          <p:cNvSpPr/>
          <p:nvPr/>
        </p:nvSpPr>
        <p:spPr>
          <a:xfrm>
            <a:off x="457200" y="5543640"/>
            <a:ext cx="1219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50960" y="5268960"/>
            <a:ext cx="1193760" cy="1022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>
            <a:hlinkClick r:id="rId26"/>
          </p:cNvPr>
          <p:cNvSpPr/>
          <p:nvPr/>
        </p:nvSpPr>
        <p:spPr>
          <a:xfrm>
            <a:off x="1600200" y="5543640"/>
            <a:ext cx="1219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844720" y="5268960"/>
            <a:ext cx="1193760" cy="1022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>
            <a:hlinkClick r:id="rId27"/>
          </p:cNvPr>
          <p:cNvSpPr/>
          <p:nvPr/>
        </p:nvSpPr>
        <p:spPr>
          <a:xfrm>
            <a:off x="2819520" y="5543640"/>
            <a:ext cx="12189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038480" y="5268960"/>
            <a:ext cx="1193760" cy="1022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>
            <a:hlinkClick r:id="rId28"/>
          </p:cNvPr>
          <p:cNvSpPr/>
          <p:nvPr/>
        </p:nvSpPr>
        <p:spPr>
          <a:xfrm>
            <a:off x="4038480" y="5543640"/>
            <a:ext cx="1219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232240" y="5268960"/>
            <a:ext cx="1194120" cy="1022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>
            <a:hlinkClick r:id="rId29"/>
          </p:cNvPr>
          <p:cNvSpPr/>
          <p:nvPr/>
        </p:nvSpPr>
        <p:spPr>
          <a:xfrm>
            <a:off x="5181480" y="5543640"/>
            <a:ext cx="1219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426360" y="5268960"/>
            <a:ext cx="1193760" cy="1022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>
            <a:hlinkClick r:id="rId30"/>
          </p:cNvPr>
          <p:cNvSpPr/>
          <p:nvPr/>
        </p:nvSpPr>
        <p:spPr>
          <a:xfrm>
            <a:off x="6400800" y="5543640"/>
            <a:ext cx="1219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645320" y="163440"/>
            <a:ext cx="1193760" cy="1022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696080" y="316080"/>
            <a:ext cx="10670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ch, du, er, s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45320" y="1176480"/>
            <a:ext cx="1193760" cy="1022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>
            <a:hlinkClick r:id="rId31"/>
          </p:cNvPr>
          <p:cNvSpPr/>
          <p:nvPr/>
        </p:nvSpPr>
        <p:spPr>
          <a:xfrm>
            <a:off x="7620120" y="1428840"/>
            <a:ext cx="12189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645320" y="2198520"/>
            <a:ext cx="1193760" cy="102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>
            <a:hlinkClick r:id="rId32"/>
          </p:cNvPr>
          <p:cNvSpPr/>
          <p:nvPr/>
        </p:nvSpPr>
        <p:spPr>
          <a:xfrm>
            <a:off x="7620120" y="2419200"/>
            <a:ext cx="12189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645320" y="3222720"/>
            <a:ext cx="1193760" cy="1022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>
            <a:hlinkClick r:id="rId33"/>
          </p:cNvPr>
          <p:cNvSpPr/>
          <p:nvPr/>
        </p:nvSpPr>
        <p:spPr>
          <a:xfrm>
            <a:off x="7620120" y="3486240"/>
            <a:ext cx="12189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645320" y="4245120"/>
            <a:ext cx="1193760" cy="1023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>
            <a:hlinkClick r:id="rId34"/>
          </p:cNvPr>
          <p:cNvSpPr/>
          <p:nvPr/>
        </p:nvSpPr>
        <p:spPr>
          <a:xfrm>
            <a:off x="7620120" y="4476600"/>
            <a:ext cx="12189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645320" y="5268960"/>
            <a:ext cx="1193760" cy="1022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>
            <a:hlinkClick r:id="rId35"/>
          </p:cNvPr>
          <p:cNvSpPr/>
          <p:nvPr/>
        </p:nvSpPr>
        <p:spPr>
          <a:xfrm>
            <a:off x="7620120" y="5543640"/>
            <a:ext cx="12189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2498760"/>
            <a:ext cx="8381880" cy="13129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anas, Schokolade, Ballett, Bana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allet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rId2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rId3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8T23:15:32Z</dcterms:created>
  <dc:creator>Mark E. Damon</dc:creator>
  <dc:description/>
  <dc:language>en-US</dc:language>
  <cp:lastModifiedBy>udsd</cp:lastModifiedBy>
  <dcterms:modified xsi:type="dcterms:W3CDTF">2009-03-09T19:30:26Z</dcterms:modified>
  <cp:revision>4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59146308</vt:r8>
  </property>
  <property fmtid="{D5CDD505-2E9C-101B-9397-08002B2CF9AE}" pid="3" name="_AuthorEmail">
    <vt:lpwstr>disiroj@npenn.org</vt:lpwstr>
  </property>
  <property fmtid="{D5CDD505-2E9C-101B-9397-08002B2CF9AE}" pid="4" name="_AuthorEmailDisplayName">
    <vt:lpwstr>DiSiro, Joseph</vt:lpwstr>
  </property>
  <property fmtid="{D5CDD505-2E9C-101B-9397-08002B2CF9AE}" pid="5" name="_EmailSubject">
    <vt:lpwstr>whatcha</vt:lpwstr>
  </property>
  <property fmtid="{D5CDD505-2E9C-101B-9397-08002B2CF9AE}" pid="6" name="_PreviousAdHocReviewCycleID">
    <vt:r8>912430826</vt:r8>
  </property>
  <property fmtid="{D5CDD505-2E9C-101B-9397-08002B2CF9AE}" pid="7" name="_ReviewingToolsShownOnce">
    <vt:lpwstr/>
  </property>
</Properties>
</file>